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784-492A-4927-BB9A-5694998B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B6AA-63BB-4624-BDC6-CCAB2D8C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E4E-21BC-4C1C-B262-C125A3D5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60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452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60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452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182-8F01-4FAB-B031-CCA2D779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2B1A-AAEA-4C4C-8071-E2015CCB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3B14-A5C4-4095-9682-028C7AD1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8D29-EE01-49E4-8592-B1D91FD1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C65A-436E-4576-BD2F-5923EABC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DB14-4335-4F7E-A611-82C337CA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46F1-51B8-4106-8CD2-53AB314B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0BD9-F64C-46F7-95EE-7B89877C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A64E-43D6-4475-AD02-32FA0753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5B7F-D05B-48DC-9D13-7E35B4D9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46E7-A825-463B-A2A4-72964FDA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D486-A52F-413B-A0A8-40E2B864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FB30-F773-4027-9EDF-933162B2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60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452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60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452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86C6-AAA6-4EDC-87A6-36A15161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C16-0E0D-47F0-8BB3-8F19309F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9D6A-5B04-4FB8-BE2A-CE9EBC33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C1F-EDD3-457B-A180-03939B98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D0C-068B-40D8-8D60-6FBAEBAB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D45-DA4C-46E9-B5B0-9AC7B912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6EF-B26D-480D-81D3-0BABC45C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FA2-BD91-4100-B22B-B5359417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9473-1C22-4BAC-9663-10F9101B9946}" type="slidenum">
              <a:rPr b="0" lang="en-US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7a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F20D-0A97-4444-BBD6-F254C6F7BF53}" type="slidenum">
              <a:rPr b="0" lang="en-US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7a"/>
                </a:solidFill>
                <a:latin typeface="Impact"/>
              </a:rPr>
              <a:t>Oracle Academy</a:t>
            </a:r>
            <a:endParaRPr b="0" lang="en-US" sz="44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4040640" y="495288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f. Carmen Popes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racle Academy Lead Adjunc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IK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WHERE first_name LIKE ’%a%’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fiseaza toate persoanele cu un ’a’ oriunde in prenum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WHERE first_name LIKE ’_ _a%’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fiseaza persoanele cu un a pe a treia pozitie din num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% - oricate caractere (inclusiv nici unul)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_ - un singur caracter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4120" y="3648240"/>
            <a:ext cx="3581280" cy="3209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IK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WHERE job_title LIKE ’%\_ _ _’   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ESCAPE ’\’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fiseaza persoanele pt. care in job_title, dupa caracterul _ mai exista exact doua caractere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u clauza ESCAPE am precizat ca% sau _ precedate de \ vor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 tratate ca si caractere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normale ce trebuie sa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para in text nu ca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wildchar.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ORDER BY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ORDER BY last_name ASC,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             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alary DESC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first_name,salary,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department_id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ORDER BY 2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 sorteaza dupa a doua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expresie din clauza SELECT,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ica dupa salary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904000" y="380880"/>
            <a:ext cx="3240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Forma generala a comenzii SELECT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expresii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ROM tabel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conditii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In clauza select pot aparea coloane, sau expresii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Ordinea operatorilor: * / + -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Operatorii logici: AND, OR (in aceasta ordine)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BETWEEN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 BETWEEN 10 AND 30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Wingdings"/>
                <a:ea typeface="Wingdings"/>
              </a:rPr>
              <a:t>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 &gt;=10 AND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&lt;=30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Departamentul 20 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ESTE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afis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IN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 IN (10,30)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Wingdings"/>
                <a:ea typeface="Wingdings"/>
              </a:rPr>
              <a:t>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=10 O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=30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Departamentul 20 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NU ESTE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afis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NULL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5+NULL =&gt; NUL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La ordonare crescatoare valorile NULL sunt puse la sfarsi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La ordonare descrescatoare NULL apare la incepu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LIAS DE COLOANA (AS)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salary+0.25*salary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salary+0.25*salary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S ”New Salary”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salary+0.25*salary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S New Salary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=&gt;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ROARE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524240" cy="219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943600" y="2514600"/>
            <a:ext cx="87624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LIAS DE COLOANA (AS)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first_name||’ ’||last_name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S  Numel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first_name||’ ’||last_name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S ”Numele”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1422360" cy="259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761240" y="838080"/>
            <a:ext cx="138276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LIAS DE COLOANA (AS)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Ghilimelele la alias sunt obligatorii cand: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liasul e compus din doua sau mai multe cuvint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Dorim ca aliasul sa fie scriscu litere mici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DESCRIB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7:43:37Z</dcterms:created>
  <dc:creator>kome</dc:creator>
  <dc:description/>
  <cp:keywords/>
  <dc:language>en-US</dc:language>
  <cp:lastModifiedBy>kome</cp:lastModifiedBy>
  <dcterms:modified xsi:type="dcterms:W3CDTF">2007-09-18T18:01:31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41033</vt:lpwstr>
  </property>
</Properties>
</file>